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DE1-6877-468B-90D0-7DBEF5007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A152-F36B-4B9E-9CD7-DDE1FF6B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4B0D-63C9-4A4E-995D-AC53EA18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0348-55BA-4213-BE4E-A05C412C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D181-83A8-4992-986A-A7B87A35B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7F0D-87AE-44F9-B9C7-6E296D78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5B723-C1AB-468A-AE80-6DC4CD20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525B-11E0-40D1-A987-9DE1D74F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B3D2-41CF-44F0-BFE0-FCB270AE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C67D-D41D-4491-A5BF-3FFDB83D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DA2F-CA1D-4A0D-8724-1E1F85F2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1870-247C-4A27-8F1A-236CF5D8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BE1BE-DD3C-46F6-9356-9B742658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2A31-233A-428D-A70E-397C92E3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CF3D-187F-4FD7-85BD-AE4E7A60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EFB8-9D53-47E3-8AA8-72997A1D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40E4-0AAD-4AA8-9348-8D6EDBD3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ED5-D387-49D8-AE0C-8255F781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009-795D-4F07-9B33-7FE2E217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00BE-5978-42C8-ADFD-3D03D30E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84BF-1C92-4A4E-84F6-107A5400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F7A6-1324-4957-A173-09228421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08B1-0AAC-4871-B714-92FF7DEF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E73-E171-4C6A-B312-2BC2DA61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</a:path>
                <a:path stroke="0" w="21600" h="21600">
                  <a:moveTo>
                    <a:pt x="0" y="-1"/>
                  </a:moveTo>
                  <a:cubicBezTo>
                    <a:pt x="11929" y="-1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0" y="-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3D5D-5AED-4DE4-9C36-808487DCA9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EDFD-C789-431A-9AEF-B979CD4582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bject Pronouns and S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2000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bjects Pronouns and Verb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Spanish a verb can tell the subject of the sentence all by itself! This happens when you conjugate the ver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is often times necessary to use a subject pronoun to help clarify the conjugation of the ver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, lets learn a verb conjug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R- TO B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SOY( I a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-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RES (you fam 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S(___         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is/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e specific na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so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sotras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SOMOS(we 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cc0000"/>
                </a:solidFill>
                <a:latin typeface="Times New Roman"/>
              </a:rPr>
              <a:t>    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osotros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nd Vosot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te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lo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or more specific nam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334040" y="202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801840" y="358128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ois (You all 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7162200" y="41911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(You all 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7620120" y="4724280"/>
            <a:ext cx="125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(They 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6463080" y="4460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amos a practicar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oose the correct form of the verb ser for the following subject pronou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l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E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Y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an y Mar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Nosot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You (Plural and Famili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osé y y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te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ou familiar / Singul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-5119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1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ás práct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w choose the subject pronoun for each form of the verb S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E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m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o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er: to tell where you are from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 use ser to tell where people are from. Here is the formul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ubject + Ser + de + count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: Yo soy de Chi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 eres de Perú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los son de Hondur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11" descr="mp00640_"/>
          <p:cNvPicPr/>
          <p:nvPr/>
        </p:nvPicPr>
        <p:blipFill>
          <a:blip r:embed="rId1"/>
          <a:stretch/>
        </p:blipFill>
        <p:spPr>
          <a:xfrm>
            <a:off x="4648320" y="2141640"/>
            <a:ext cx="3809880" cy="379404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ake into a sent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/Argen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/ Nicarag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sotros/ Paragu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sotros/Los Estados Un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poli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a/ Cub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maestra/ Venezu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s muchachos/ El Salvad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guel y yo/ Puerto R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ú/ Méx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los/ /Colomb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 hombre y la mujer/ Ch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bjects and Verb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bject of a sentence tells us who is doing the ac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erb tells us what action is taking place in the sent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bject Pronou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ject pronouns are used to discuss peopl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bject pronoun tells who is the subject of the sente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ject pronouns can replace names when talking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ese are the Subject Prounouns in Spanish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o-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ú-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ou Famili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ted-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You 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Él-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la-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S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ne Specific name-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Ju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sotros-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W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sotras-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We (girl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osotro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- You (Familiar/Spain/ Masculi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Vosotra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 – (You / Feminine/Familiar/Spai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tedes-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You al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los-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he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las-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hey (girl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 or more names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(Juan y Migue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670320" y="1162080"/>
            <a:ext cx="16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ng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5639040" y="114300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lu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  <a:ea typeface="Arial"/>
              </a:rPr>
              <a:t>ú- You FAMILIAR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us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ú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talking to friends or people who you are on a FIRST NAME basis wi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us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  <a:ea typeface="Times New Roman"/>
              </a:rPr>
              <a:t>tú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you talk to each other, your friends or casual peop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5" descr="030620-F-0000W-007A"/>
          <p:cNvPicPr/>
          <p:nvPr/>
        </p:nvPicPr>
        <p:blipFill>
          <a:blip r:embed="rId1"/>
          <a:stretch/>
        </p:blipFill>
        <p:spPr>
          <a:xfrm>
            <a:off x="4648320" y="2309760"/>
            <a:ext cx="3809880" cy="3457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ted- you FORM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 use </a:t>
            </a:r>
            <a:r>
              <a:rPr b="0" i="1" lang="en-US" sz="2800" spc="-1" strike="noStrike">
                <a:solidFill>
                  <a:srgbClr val="ff0033"/>
                </a:solidFill>
                <a:latin typeface="Times New Roman"/>
              </a:rPr>
              <a:t>USTED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alking to people who you are on a last name bas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esident, doctors, teachers, adults, etc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010516-O-9999D-001A"/>
          <p:cNvPicPr/>
          <p:nvPr/>
        </p:nvPicPr>
        <p:blipFill>
          <a:blip r:embed="rId1"/>
          <a:stretch/>
        </p:blipFill>
        <p:spPr>
          <a:xfrm>
            <a:off x="685800" y="2651040"/>
            <a:ext cx="3809880" cy="2774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ted and Uste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ted refers to only one pers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ted is abbreviated as Ud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tedes refers to more than one person. Can be a formal and informal pers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tedes is abbreviated as U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5025960" y="1238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Vosotros and Vosotr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are plural and familiar ways of saying you to a group.  These are not used everywhere only in Spa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Spain a teacher would refer to her students as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osotros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stead of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tedes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  In Mexico and other Spanish speaking countries there isn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a difference between the plural you.  Ustedes is used in both situa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¿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  <a:ea typeface="Arial"/>
              </a:rPr>
              <a:t>ú o Usted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enti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best fri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si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ol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resid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gu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teac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Your mom or 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ctor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7" descr="pe02716_"/>
          <p:cNvPicPr/>
          <p:nvPr/>
        </p:nvPicPr>
        <p:blipFill>
          <a:blip r:embed="rId1"/>
          <a:stretch/>
        </p:blipFill>
        <p:spPr>
          <a:xfrm>
            <a:off x="4648320" y="2241720"/>
            <a:ext cx="3809880" cy="3593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18:21:09Z</dcterms:created>
  <dc:creator>steve shebloski</dc:creator>
  <dc:description/>
  <dc:language>en-US</dc:language>
  <cp:lastModifiedBy>Nicole Fannoney</cp:lastModifiedBy>
  <cp:lastPrinted>2009-04-22T19:24:48Z</cp:lastPrinted>
  <dcterms:modified xsi:type="dcterms:W3CDTF">2014-09-18T12:30:29Z</dcterms:modified>
  <cp:revision>19</cp:revision>
  <dc:subject/>
  <dc:title>Subject Pronouns</dc:title>
</cp:coreProperties>
</file>